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C8A3-C64F-49AA-B990-FB1389BC729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9120-629A-4C15-943B-CEF4E73F0B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2507-85EA-4611-9900-40FE3A3D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3B5A-A184-4719-AF01-C16FFC7D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40EA-AD8D-43B4-8B20-E2A1DBA8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20C8-798B-4B0E-A177-781B7CFB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730C-5440-453A-97B6-5915AC4C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BF6B-3351-49FD-B2EE-9B574F66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8838-4980-49EA-A490-1BEF4B71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61B6-77D1-413E-934E-D375F6E1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BE76-49C4-421C-9030-82320077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E1E0-B8CA-4901-8C45-5BD4440C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6BAA-9637-4201-8586-1FB9E16D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AA1D-1A00-4E25-83A5-AF0091EE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AA6C-C13C-4A74-8210-1A72DC8FE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066680" y="-380880"/>
            <a:ext cx="6624720" cy="60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haroni"/>
              </a:rPr>
              <a:t>   </a:t>
            </a:r>
            <a:r>
              <a:rPr b="1" lang="en-US" sz="9600" spc="-1" strike="noStrike">
                <a:solidFill>
                  <a:srgbClr val="ff0000"/>
                </a:solidFill>
                <a:latin typeface="Aharoni"/>
              </a:rPr>
              <a:t>Review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haroni"/>
              </a:rPr>
              <a:t>  </a:t>
            </a:r>
            <a:r>
              <a:rPr b="1" lang="en-US" sz="9600" spc="-1" strike="noStrike">
                <a:solidFill>
                  <a:srgbClr val="ff0000"/>
                </a:solidFill>
                <a:latin typeface="Aharoni"/>
              </a:rPr>
              <a:t>of Unit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0" y="228600"/>
            <a:ext cx="8915400" cy="70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  <a:ea typeface="宋体"/>
              </a:rPr>
              <a:t>你如何到校？乘地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  <a:ea typeface="宋体"/>
              </a:rPr>
              <a:t>步行上班花费他大约</a:t>
            </a:r>
            <a:r>
              <a:rPr b="1" sz="32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sz="3200" spc="-1" strike="noStrike">
                <a:solidFill>
                  <a:srgbClr val="000000"/>
                </a:solidFill>
                <a:latin typeface="Arial"/>
                <a:ea typeface="宋体"/>
              </a:rPr>
              <a:t>分钟</a:t>
            </a:r>
            <a:r>
              <a:rPr b="1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  <a:ea typeface="宋体"/>
              </a:rPr>
              <a:t>开车去公共汽车站花你多长时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  <a:ea typeface="宋体"/>
              </a:rPr>
              <a:t>你觉得你们的校规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我家离学校大约两公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52280" y="685800"/>
            <a:ext cx="804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w do you get to school? By sub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76320" y="1752480"/>
            <a:ext cx="95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 takes him about 15 minutes to walk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76320" y="2209680"/>
            <a:ext cx="915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e spends about 15 minutes going to work on f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76320" y="3657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w long does it take you to drive to the bus s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76320" y="518148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do you think of your school ru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129"/>
          <p:cNvSpPr/>
          <p:nvPr/>
        </p:nvSpPr>
        <p:spPr>
          <a:xfrm>
            <a:off x="5334120" y="464832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ink abo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6320" y="617220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y home is about 2 kilometers from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0" y="152280"/>
            <a:ext cx="8077320" cy="71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离这儿多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他昨晚花了半个小时练功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座桥是他们的梦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很多学生来说回答这个问题不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37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住在哪？住在英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04920" y="685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w far is it from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28600" y="3733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’s their dream to have a bri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76320" y="46483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’s not easy for many students to answer the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-76320" y="1676520"/>
            <a:ext cx="970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 took him half an hour to do kung fu las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0" y="22096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e spent half an hour doing kung fu yesterday eve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76320" y="59436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ere do you live? In the 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28600" y="152280"/>
            <a:ext cx="868680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t 3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谈论交通方式及相关话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How do you get to school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subway. / I take the subw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How far is it (from…to …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about 20 kilo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abou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0 minutes’ ride / wal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How long does it take (sb to do sth…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takes about half an hour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t takes (sb) some time to do sth ..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b spend(s) some time doing sth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左大括号 2051"/>
          <p:cNvSpPr/>
          <p:nvPr/>
        </p:nvSpPr>
        <p:spPr>
          <a:xfrm>
            <a:off x="609480" y="548640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20481"/>
          <p:cNvSpPr/>
          <p:nvPr/>
        </p:nvSpPr>
        <p:spPr>
          <a:xfrm>
            <a:off x="228600" y="457200"/>
            <a:ext cx="441972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坐火车去广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乘公共汽车上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坐地铁回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骑自行车去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步行去图书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20482"/>
          <p:cNvSpPr/>
          <p:nvPr/>
        </p:nvSpPr>
        <p:spPr>
          <a:xfrm>
            <a:off x="2819520" y="457200"/>
            <a:ext cx="594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ake a train to Guangd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20483"/>
          <p:cNvSpPr/>
          <p:nvPr/>
        </p:nvSpPr>
        <p:spPr>
          <a:xfrm>
            <a:off x="2743200" y="914400"/>
            <a:ext cx="59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 to Guangdong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y 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0484"/>
          <p:cNvSpPr/>
          <p:nvPr/>
        </p:nvSpPr>
        <p:spPr>
          <a:xfrm>
            <a:off x="3200400" y="175248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ake a bus to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20485"/>
          <p:cNvSpPr/>
          <p:nvPr/>
        </p:nvSpPr>
        <p:spPr>
          <a:xfrm>
            <a:off x="3200400" y="23623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 to schoo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y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20486"/>
          <p:cNvSpPr/>
          <p:nvPr/>
        </p:nvSpPr>
        <p:spPr>
          <a:xfrm>
            <a:off x="2362320" y="304812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ake the subway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20487"/>
          <p:cNvSpPr/>
          <p:nvPr/>
        </p:nvSpPr>
        <p:spPr>
          <a:xfrm>
            <a:off x="2362320" y="350532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 hom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y sub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20488"/>
          <p:cNvSpPr/>
          <p:nvPr/>
        </p:nvSpPr>
        <p:spPr>
          <a:xfrm>
            <a:off x="2743200" y="4267080"/>
            <a:ext cx="42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ide a bike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0489"/>
          <p:cNvSpPr/>
          <p:nvPr/>
        </p:nvSpPr>
        <p:spPr>
          <a:xfrm>
            <a:off x="2743200" y="4800600"/>
            <a:ext cx="56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 ther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y bik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0490"/>
          <p:cNvSpPr/>
          <p:nvPr/>
        </p:nvSpPr>
        <p:spPr>
          <a:xfrm>
            <a:off x="2743200" y="54864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lk to the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0491"/>
          <p:cNvSpPr/>
          <p:nvPr/>
        </p:nvSpPr>
        <p:spPr>
          <a:xfrm>
            <a:off x="2743200" y="6019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 to the library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on f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"/>
          <p:cNvSpPr/>
          <p:nvPr/>
        </p:nvSpPr>
        <p:spPr>
          <a:xfrm>
            <a:off x="6172200" y="1371600"/>
            <a:ext cx="32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 the 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31747"/>
          <p:cNvSpPr/>
          <p:nvPr/>
        </p:nvSpPr>
        <p:spPr>
          <a:xfrm>
            <a:off x="0" y="533520"/>
            <a:ext cx="8605800" cy="39934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How do you get to school?                                             B: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y subw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                                                               A: How far is it from your home to school?                              B: It’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re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kilometers.                                                                         A: How long does it ta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It tak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31751" descr="subway01"/>
          <p:cNvPicPr/>
          <p:nvPr/>
        </p:nvPicPr>
        <p:blipFill>
          <a:blip r:embed="rId1"/>
          <a:stretch/>
        </p:blipFill>
        <p:spPr>
          <a:xfrm>
            <a:off x="0" y="4038480"/>
            <a:ext cx="2438280" cy="1676520"/>
          </a:xfrm>
          <a:prstGeom prst="rect">
            <a:avLst/>
          </a:prstGeom>
          <a:ln w="0">
            <a:noFill/>
          </a:ln>
        </p:spPr>
      </p:pic>
      <p:sp>
        <p:nvSpPr>
          <p:cNvPr id="65" name="文本框 31752"/>
          <p:cNvSpPr/>
          <p:nvPr/>
        </p:nvSpPr>
        <p:spPr>
          <a:xfrm>
            <a:off x="0" y="586728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kil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31753" descr="火车"/>
          <p:cNvPicPr/>
          <p:nvPr/>
        </p:nvPicPr>
        <p:blipFill>
          <a:blip r:embed="rId2"/>
          <a:stretch/>
        </p:blipFill>
        <p:spPr>
          <a:xfrm>
            <a:off x="2362320" y="3962520"/>
            <a:ext cx="2514600" cy="175248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31754"/>
          <p:cNvSpPr/>
          <p:nvPr/>
        </p:nvSpPr>
        <p:spPr>
          <a:xfrm>
            <a:off x="2286000" y="5697360"/>
            <a:ext cx="2438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kil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1755"/>
          <p:cNvSpPr/>
          <p:nvPr/>
        </p:nvSpPr>
        <p:spPr>
          <a:xfrm>
            <a:off x="4648320" y="5697360"/>
            <a:ext cx="2895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kilom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1756"/>
          <p:cNvSpPr/>
          <p:nvPr/>
        </p:nvSpPr>
        <p:spPr>
          <a:xfrm>
            <a:off x="6858000" y="578952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kil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31757" descr="公共汽车"/>
          <p:cNvPicPr/>
          <p:nvPr/>
        </p:nvPicPr>
        <p:blipFill>
          <a:blip r:embed="rId3"/>
          <a:stretch/>
        </p:blipFill>
        <p:spPr>
          <a:xfrm>
            <a:off x="6781680" y="4419720"/>
            <a:ext cx="2414880" cy="14475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31758" descr="步行"/>
          <p:cNvPicPr/>
          <p:nvPr/>
        </p:nvPicPr>
        <p:blipFill>
          <a:blip r:embed="rId4"/>
          <a:stretch/>
        </p:blipFill>
        <p:spPr>
          <a:xfrm>
            <a:off x="4800600" y="3809880"/>
            <a:ext cx="1792440" cy="182880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31759"/>
          <p:cNvSpPr/>
          <p:nvPr/>
        </p:nvSpPr>
        <p:spPr>
          <a:xfrm>
            <a:off x="2819520" y="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ai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自行车"/>
          <p:cNvPicPr/>
          <p:nvPr/>
        </p:nvPicPr>
        <p:blipFill>
          <a:blip r:embed="rId5"/>
          <a:stretch/>
        </p:blipFill>
        <p:spPr>
          <a:xfrm>
            <a:off x="6629400" y="1981080"/>
            <a:ext cx="2087640" cy="139248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1"/>
          <p:cNvSpPr/>
          <p:nvPr/>
        </p:nvSpPr>
        <p:spPr>
          <a:xfrm>
            <a:off x="6629400" y="335268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kil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文本框 21507"/>
          <p:cNvSpPr/>
          <p:nvPr/>
        </p:nvSpPr>
        <p:spPr>
          <a:xfrm>
            <a:off x="0" y="152280"/>
            <a:ext cx="943920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 every  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数名词    （谓语用单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  +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单数名词  （谓语用单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of u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Each student has short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hundre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hundred and 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ve hundr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twenty-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are 900 students in our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far    be far from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ve far from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 home is 3 kilometers from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far is it from your home to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22531"/>
          <p:cNvSpPr/>
          <p:nvPr/>
        </p:nvSpPr>
        <p:spPr>
          <a:xfrm>
            <a:off x="0" y="152280"/>
            <a:ext cx="9296280" cy="66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drive (a car) to 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9. leave  (v.)     leave +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地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leave +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物品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地点   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落下…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留下…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10.  cross   (v.)   -----   across    (pre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cross the river / street / road / brid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=  go across the river /street/ road / 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11. an </a:t>
            </a:r>
            <a:r>
              <a:rPr b="1" sz="3200" spc="-1" strike="noStrike">
                <a:solidFill>
                  <a:srgbClr val="0000ff"/>
                </a:solidFill>
                <a:latin typeface="Arial"/>
              </a:rPr>
              <a:t>800-word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  let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sz="3200" spc="-1" strike="noStrike">
                <a:solidFill>
                  <a:srgbClr val="0000ff"/>
                </a:solidFill>
                <a:latin typeface="Arial"/>
              </a:rPr>
              <a:t>six-month-old 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sz="3200" spc="-1" strike="noStrike">
                <a:solidFill>
                  <a:srgbClr val="0000ff"/>
                </a:solidFill>
                <a:latin typeface="Arial"/>
              </a:rPr>
              <a:t>11-day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  t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228600" y="22860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. It’s one’s dream to do …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. It’s +adj. (+for sb) to do sth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1752480"/>
            <a:ext cx="82296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写作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谈论自己或某人的上学、上班的交通方式及距离、所用时间、沿途感受等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P18 3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介绍归纳班级同学们、单位同事们或家人们常用的交通方式及相关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0" y="152280"/>
            <a:ext cx="7236000" cy="62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乘公交车去他爷爷奶奶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骑自行车去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大约</a:t>
            </a: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8:30</a:t>
            </a: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离开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其中许多村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一个</a:t>
            </a: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的婴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6320" y="762120"/>
            <a:ext cx="807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ake the bus to his grandparents’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0" y="1295280"/>
            <a:ext cx="955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 to his grandparents’ home by bus/on a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895480" y="18288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ide a bike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2819520" y="2362320"/>
            <a:ext cx="444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 there by b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3352680" y="3581280"/>
            <a:ext cx="571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ave home at about 8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2971800" y="41911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man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of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h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villager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3581280" y="487692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 8 – month – old ba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3083"/>
          <p:cNvSpPr/>
          <p:nvPr/>
        </p:nvSpPr>
        <p:spPr>
          <a:xfrm>
            <a:off x="2971800" y="2895480"/>
            <a:ext cx="41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 there on a b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76320" y="1066680"/>
            <a:ext cx="579744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我来说像一位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图书馆和超市之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时到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离火车站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419720" y="106668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 like a father to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04920" y="2514600"/>
            <a:ext cx="87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tween the library and the super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600200" y="3505320"/>
            <a:ext cx="32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me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2819520" y="5181480"/>
            <a:ext cx="59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 far from the train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438280" y="43434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rive / get home 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02:46:42Z</dcterms:created>
  <dc:creator/>
  <dc:description/>
  <cp:keywords/>
  <dc:language>en-US</dc:language>
  <cp:lastModifiedBy>Administrator</cp:lastModifiedBy>
  <dcterms:modified xsi:type="dcterms:W3CDTF">2007-01-15T01:24:01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  <property fmtid="{D5CDD505-2E9C-101B-9397-08002B2CF9AE}" pid="3" name="Version">
    <vt:r8>1</vt:r8>
  </property>
</Properties>
</file>